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965-D1F2-44F3-A893-5CB69B0C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83C-58A0-4674-8E47-ADBC26BF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39E-D423-4D1C-94A2-CA51CBD2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764-AB45-4D71-89FB-99AC4F2B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460-144B-4CA6-8DE7-4841463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FB7-63BC-4826-9A31-BBE46C77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CAA-177B-45C0-91E2-F36FBC21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31B-1D72-4277-8CC8-7D1EB985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ED9-9534-4442-8600-92FBFF9E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818-1B97-4283-9EDA-63FC631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DDC-4BF5-4963-B25D-998A3780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FFB-7E55-4ABC-A946-57452305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58A1-3520-4E34-B6A1-42393ED46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2 Keď tvoj žitia kríž je ťažk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tvoj žitia kríž je ťažk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ď vierou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ozeraj na prekáž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etia hviezdy Božích sľub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ierou vpred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ov kríž je tvojou chlúb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ej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j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ierou vpre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boku ti Ježiš stoj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etia hviezdy Božích sľub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ierou vpred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ov kríž je tvojou chlúb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íl keď sa ti nedost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ierou vpre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i novú nádej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etia hviezdy Božích sľub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ierou vpred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ov kríž je tvojou chlúb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hoď vierou vpred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2:22:42Z</dcterms:modified>
  <cp:revision>21</cp:revision>
  <dc:subject/>
  <dc:title>Je veľký náš Pán, on slávy je Kráľ Nech do všetkých strán  spev vrúcnych znie chvál.</dc:title>
</cp:coreProperties>
</file>